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5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427-A844-44AA-BAAB-8371D077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CAE-7ED5-4230-8080-E7E2DB72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4C9-E30B-4B72-A0FA-2E02994A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99B-8689-4BBF-9639-043DC2E6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125C-A507-4DB4-911D-5862257E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56D9-E8BC-4B90-8342-254CF596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1F73-951F-4D00-9740-84EA6BCB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5930-C251-40C2-B4F0-87DD9622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41DA-33D0-464C-BAC3-5BAA2DC6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89F6-8FBB-4919-B47A-BC0AB3DD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7AB1-171A-4D2D-B920-364CD4E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C6E-04B4-41C5-B8BC-9CAB70E3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8B90-ACA4-4B07-B0A0-88C77586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91C8-AC66-46E4-AA09-A445A0D7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79A7-EC44-4258-80BC-9EFC0E3A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2260-480A-45BB-8A93-952E1A16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72F2-31CB-4B4A-93CB-E6F14C7F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AA64E-3071-4A5C-A024-99AD0873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79AD6-EFC4-4128-B615-DF516F2C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0834-CB6E-43F9-8ADF-D06D47F8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E604-7406-4B09-94DB-9DB793E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AB3B-9D2C-4B23-9929-7E2F32E4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301-B3EF-45B9-B1A0-C94E2FDE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DC29F-9D5E-4B06-90FB-5E074145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A279-DD53-4386-8721-F88322E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C51A-C88B-4E67-B074-0095011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C488-8064-49EF-9D66-A5F14E53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9978-3CE6-4607-9AFF-B05F93B4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429B3-8F65-42E2-8F09-ADC56471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3369-5A3A-45FD-8839-2C752D5F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AF45-1C37-4684-8B41-4636FB2C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754F-771F-485A-8FB1-E75FEE3C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73B2-DC48-4289-BAE3-0FE4D11E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4C0-636B-4D11-950E-8AEE05F0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1E95-826A-4784-9DA1-89862FE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D8F1A-C0C0-4DA7-9E41-8854505B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E4DAB-A73E-4646-89A7-C78B3054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5F4C-661F-4415-99BA-9073EBB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9FA1-35D1-4971-9419-E85D09A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CC70-B834-4640-89EB-AF988D60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A460F-85DF-4B7B-BD38-CB3AB08C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2980-FE55-46A2-9315-83872946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DCF9-DE30-4CCB-91FF-83B82F42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5A5-0037-4B58-B209-04E869F4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592-DA83-4B9F-B6FF-BB8F34F7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648-9314-4918-8695-9AC6AA8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DE6-984D-49D8-A2FE-69074B92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A6C-5C16-463B-B4B9-887C6D4C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6D14-F179-4D65-BBBD-D66BAEE93A2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59B8-8878-4D26-A66A-DE454DDF2F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e6b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EDF8-91FA-4117-964C-B1FDF9D59470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532A-C447-47D6-B9E8-35C2CC7A0B51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5334120"/>
            <a:ext cx="9143640" cy="2423520"/>
            <a:chOff x="0" y="5334120"/>
            <a:chExt cx="9143640" cy="2423520"/>
          </a:xfrm>
        </p:grpSpPr>
        <p:sp>
          <p:nvSpPr>
            <p:cNvPr id="180" name=""/>
            <p:cNvSpPr/>
            <p:nvPr/>
          </p:nvSpPr>
          <p:spPr>
            <a:xfrm>
              <a:off x="0" y="5334120"/>
              <a:ext cx="91436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333399"/>
                  </a:solidFill>
                  <a:latin typeface="Arial"/>
                </a:rPr>
                <a:t>GT Reuso : Modalidades para reúso direto não potável de Águ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20120" y="7372440"/>
              <a:ext cx="47034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62320" y="6172200"/>
            <a:ext cx="6400800" cy="757080"/>
            <a:chOff x="2362320" y="6172200"/>
            <a:chExt cx="6400800" cy="757080"/>
          </a:xfrm>
        </p:grpSpPr>
        <p:sp>
          <p:nvSpPr>
            <p:cNvPr id="183" name=""/>
            <p:cNvSpPr/>
            <p:nvPr/>
          </p:nvSpPr>
          <p:spPr>
            <a:xfrm>
              <a:off x="2362320" y="6172200"/>
              <a:ext cx="640080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rof. Demetrios Christofid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13920" y="6562440"/>
              <a:ext cx="329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51200" y="471600"/>
            <a:ext cx="18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90000" tIns="8892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UTILIZAÇÃO AGRÍCOLA DE EFLUENTES DE LAGOA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 ESTABI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562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Proposta de Resolução do CNRH para fins agrícolas e florestais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476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28600" y="152280"/>
            <a:ext cx="800100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I Reunião – GT Reúso: Brasília ( 20/09/06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ra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36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resentantes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stitu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M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S/FUNAS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MAP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E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E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BE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ES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O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TROBRAS             CN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ABORE-Consult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CBR                        Comitê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ARH – DF           A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152280"/>
            <a:ext cx="868680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II Reunião do GT Reúso : Vídeo Conferênci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( 26/10/2006 )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São Paulo; Brasília; Curitiba e Rio de Janei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ra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46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resentantes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3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stitu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MA                           AN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MI                         SUDERH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/FUNAS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P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MCIDADES         SEC. SAUDE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IESP                          US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UERJ                     EMBRAPA S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ABESP                     CAESB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FIOCRUZ             CED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TROBRAS             CN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CNA                      SANE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ABORE-Consult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CB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        Comitês                 EM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MARH – DF          ABES                        CETE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C-Campinas            UFPR                        FIR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FCN                      UNICA/CTC             IN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81680" y="47242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0496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A terceira  reunião do GT Reuso : CNRH,  será realizada  na FIESP com Ponto principal em Brasília, em Video Conferência : São Paulo, Curitiba, Rio de Jan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57340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28600"/>
            <a:ext cx="9144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Houve uma reunião de apoio na representação da OPAS/OMS, dia 16/nov/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 uma do grupo de Coordenação no dia 22/nov/2006, para consolidar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3562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5228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006666"/>
                </a:solidFill>
                <a:latin typeface="Times New Roman"/>
              </a:rPr>
              <a:t>A natureza jamais quebra suas próprias leis.”</a:t>
            </a:r>
            <a:r>
              <a:rPr b="1" lang="pt-BR" sz="2400" spc="-1" strike="noStrike">
                <a:solidFill>
                  <a:srgbClr val="0066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475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475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Leonardo da Vinci ( 1452- 1519 )</a:t>
            </a:r>
            <a:r>
              <a:rPr b="1" lang="en-US" sz="2000" spc="-1" strike="noStrike">
                <a:solidFill>
                  <a:srgbClr val="6ab475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e6b"/>
                </a:solidFill>
                <a:latin typeface="Arial"/>
              </a:rPr>
              <a:t>christofidis@unb.br                    ou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e6b"/>
                </a:solidFill>
                <a:latin typeface="Arial"/>
              </a:rPr>
              <a:t>demetriosugpo2002@yahoo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loud"/>
          <p:cNvSpPr/>
          <p:nvPr/>
        </p:nvSpPr>
        <p:spPr>
          <a:xfrm>
            <a:off x="6934320" y="90360"/>
            <a:ext cx="2209680" cy="1030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89000"/>
            <a:ext cx="5257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 DINÂMICA DA GESTÃO DOS RECURSOS HÍDRICO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MOVIMENTOS DO GESTOR DE ÁGUAS EFETIV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266688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290520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33520" y="196668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2895480"/>
            <a:ext cx="50292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4876920"/>
            <a:ext cx="3733560" cy="1981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3994200"/>
            <a:ext cx="3048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que fazer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2286000"/>
            <a:ext cx="2743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FUTURO DA GESTÃO DA Á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15040" y="152280"/>
            <a:ext cx="18288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IMUNIDADE E SUSTENTA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5410080"/>
            <a:ext cx="20574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VULNERABILIDADE E INSUSTENTA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1146240" cy="1066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91520" y="4375080"/>
            <a:ext cx="16761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nti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ICI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3460680"/>
            <a:ext cx="16761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li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ICÁ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2637000"/>
            <a:ext cx="1981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O,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US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ITANDO O AB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3124080"/>
            <a:ext cx="16765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iclagem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229392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MENTOS DE GEST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184320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ENCIALIDADES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144792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SIÇÃO DE Á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1143000"/>
            <a:ext cx="13716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ETIV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7120" y="5114880"/>
            <a:ext cx="2405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DANÇAS DE PARADIG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36360" y="5870520"/>
            <a:ext cx="53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VO MUNDO COMEÇA A SER DELINEADO PELA ELIMINAÇÃO DO INADEQUADO DO MUNDO ATU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28600" y="0"/>
            <a:ext cx="891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úso de água residuária na agri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r  problema sanitário em alimento e chance de melhori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1197000"/>
            <a:ext cx="532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5334120"/>
            <a:ext cx="53341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ISC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sociados ao Reú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cos aos irrigantes 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minação de águas   subterrân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052640"/>
            <a:ext cx="3635280" cy="54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nefí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ixo custo sanitário da disposiçao dos resíduos líquidos municip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rvação da á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ção da poluição dos rios, canais e outras águas superfici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rvação dos nutrientes:  reduz a necessidade de fertiliz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 da produtividade dos cul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antia de oferta de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62485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200"/>
                </a:solidFill>
                <a:latin typeface="Arial"/>
                <a:ea typeface="Arial"/>
              </a:rPr>
              <a:t>Fonte: Frank Rijsberman</a:t>
            </a:r>
            <a:r>
              <a:rPr b="1" lang="en-GB" sz="1600" spc="-1" strike="noStrike">
                <a:solidFill>
                  <a:srgbClr val="006200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006200"/>
                </a:solidFill>
                <a:latin typeface="Arial"/>
                <a:ea typeface="Arial"/>
              </a:rPr>
              <a:t>(WWW,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>
            <a:off x="3657600" y="812880"/>
            <a:ext cx="5257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64640" y="0"/>
            <a:ext cx="73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al deles é cultivado com água residuári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304920"/>
            <a:ext cx="8458200" cy="62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UNTOS TRA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ríodo da manhã - Apresentaçõ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pósitos do GT, expectativas e resultados esperado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metrios Christofidis / M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trospectiva dos trabalhos realizados na fase que antecedeu a Resolução CNRH nº 54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João Marcelo / TC/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visão da ANA para o Reús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Devanir dos Santos / 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experiência internacional / A proposta e os padrões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vanildo Hespanhol / USP-CI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otencial de reúso de água no Brasil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Américo Sampaio / SAB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685800"/>
            <a:ext cx="88390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íodo da tar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posta para Resolução de Reuso para fins Agrícolas e Flores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se: Propostas apresentadas pelo Prof. Ivanildo Hespan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siderandos da Proposta CNRH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Resolução estabelece procedimentos para disciplinar a prática de reuso direto não potável de água na modalidade definida na Resolução CNRH n. 54 de 28 de novembro de 2005 Art. 3. inciso II –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o para fins agrícolas e florestai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licação de água de reuso para produção agrícola e cultivo de florestas pla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04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152280"/>
            <a:ext cx="8610480" cy="65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2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diretrizes de qualidade consideradas nesta Resolu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em aos seguintes tipos de cul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Tipo: Fins Floresta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Tipo: Fins Agríco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 Forragens, fibras, culturas com sement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 Ingeridas após processamento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Pomares e vinhas; 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Ingeridas cru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Tipo: Irrigação Urb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Áreas verdes com acesso restrito, faixas de segurança, faixas decorativas em estradas e ocupação controlada; , e outros a critério do órgão competente.</a:t>
            </a: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  Áreas verdes com acesso irrestrito; campos esportivos; praças; jardins; cinturões verdes; cemitérios, e outras a critério do órgão compe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696080" y="6094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665440" y="1468440"/>
            <a:ext cx="6356160" cy="830160"/>
            <a:chOff x="2665440" y="1468440"/>
            <a:chExt cx="6356160" cy="830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2665440" y="1468440"/>
              <a:ext cx="6356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755800" y="1557360"/>
              <a:ext cx="62658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Lei nº 9.433, de 1997, que dispõe sobre a Política Nacional de Recursos Hídricos e cria o Sistema Nacional de Gerenciamento de Recursos Hídricos - SINGREH, dá ênfase ao uso sustentável da á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52640" y="186516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7600" y="1544760"/>
            <a:ext cx="1747800" cy="1017360"/>
            <a:chOff x="147600" y="1544760"/>
            <a:chExt cx="1747800" cy="101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47600" y="154476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36520" y="1633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1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665440" y="3505320"/>
            <a:ext cx="6356160" cy="1042920"/>
            <a:chOff x="2665440" y="3505320"/>
            <a:chExt cx="6356160" cy="104292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2665440" y="350532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755800" y="359424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diretriz adotada pelo Conselho Econômico e Social da Organização das Nações Unidas – ONU, segundo a qual, a não ser que haja grande disponibilidade, nenhuma água de boa qualidade deverá ser utilizada em atividades que tolerem águas de qualidade infer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52640" y="390204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47600" y="3579840"/>
            <a:ext cx="1747800" cy="1018800"/>
            <a:chOff x="147600" y="3579840"/>
            <a:chExt cx="1747800" cy="10188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147600" y="357984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36520" y="367020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3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665440" y="4627440"/>
            <a:ext cx="6356160" cy="1042920"/>
            <a:chOff x="2665440" y="4627440"/>
            <a:chExt cx="6356160" cy="104292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tretch/>
          </p:blipFill>
          <p:spPr>
            <a:xfrm>
              <a:off x="2665440" y="462744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755800" y="471636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o reúso de água que se constitui em prática de racionalização e de conservação de recursos hídricos, conforme princípios estabelecidos na Agenda 21, podendo tal prática ser utilizada como instrumento para regular a oferta e a demanda de recursos hídr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952640" y="502452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7600" y="4703760"/>
            <a:ext cx="1747800" cy="1017360"/>
            <a:chOff x="147600" y="4703760"/>
            <a:chExt cx="1747800" cy="10173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147600" y="470376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36520" y="4792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4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47600" y="2482920"/>
            <a:ext cx="1747800" cy="1018800"/>
            <a:chOff x="147600" y="2482920"/>
            <a:chExt cx="1747800" cy="10188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147600" y="248292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36520" y="25732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2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55720" y="2386080"/>
            <a:ext cx="6356160" cy="1042920"/>
            <a:chOff x="2655720" y="2386080"/>
            <a:chExt cx="6356160" cy="1042920"/>
          </a:xfrm>
        </p:grpSpPr>
        <p:pic>
          <p:nvPicPr>
            <p:cNvPr id="214" name="" descr=""/>
            <p:cNvPicPr/>
            <p:nvPr/>
          </p:nvPicPr>
          <p:blipFill>
            <a:blip r:embed="rId8"/>
            <a:stretch/>
          </p:blipFill>
          <p:spPr>
            <a:xfrm>
              <a:off x="2655720" y="238608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746080" y="247500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Década Brasileira da Àgua, instituida pelo Decreto de 22 de março de 2005 com o objetivo de promover e intensificar a formulação de políticas, programas e projetos relativos ao gerenciamento e uso sustentável da á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43280" y="278280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SOLUÇÃO CNRH Nº 54, de 28 de novembro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760" y="135000"/>
            <a:ext cx="8610480" cy="66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3 As diretrizes de qualidade microbiológicas da água de reúso par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s agrícolas e florestais são: </a:t>
            </a:r>
            <a:r>
              <a:rPr b="1" lang="pt-BR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ão deixar de considerar água provenient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dejetos animais)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A: Irrigação de culturas a serem ingeridas cruas, campos esportivos, parques públ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Operários, consumidores, públ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os de helmintos: 1 ovo por lit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formes termotolerantes (NMP/100ml): 1.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tratamento recomendado para atingir qualidade microbiológica:  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oas de estabilização em série, tratamento equivale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B: Irrigação de cereais, culturas industriais, forragem, pastos, cultivos perenes e árvor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Operár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os de helmintos: 1 ovo por lit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tratamento recomendado para atingir qualidade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biológica: Retenção em lagoas de estabilização por 8 a 10 dias, 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ção equivalente de helmintos e coliformes feca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391520" y="190512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76320"/>
            <a:ext cx="89154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4 As variáveis de qualidade físico e química da água de reúso para fi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ícolas e florestais são: </a:t>
            </a:r>
            <a:r>
              <a:rPr b="1" lang="pt-BR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ão deixar de considerar água proveniente de dejetos anim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H entre 6 e 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ondutividade elétrica: EC (dS/m) &lt; 3,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DT (mg/l) &lt; 15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Razão de Adsorção de Sódio - RAS: para irrigação superficial entre 3 e 9; para irrigação por aspersão RAS superiores a 3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Cloretos - Para irrigação superficial inferior a 350 mg/l e para irrigação por aspersão inferior a 100 mg/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loro residual total máximo de 1 mg/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Boro – 0,7 mg/l, para culturas alimentícias e de até 3,0 mg/l para irrigação de jardim e similares.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nalisar a respeito do BORO, </a:t>
            </a:r>
            <a:r>
              <a:rPr b="1" lang="pt-BR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MBRADO PELA SABESP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Nitrogênio total – entre 5 e 30 mg/l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ISCUTIR SOBRE O NITROGÊNIO AMONIAC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DBO &lt; 20 mg/l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e 10 a 80: Fonseca 2006; Agricultural Water Management XXX-200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) SST: de 10 a 80 mg/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) INVESTIGAR o 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66760" y="1295280"/>
            <a:ext cx="861048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C: Irrigação pelo método localizada </a:t>
            </a:r>
            <a:r>
              <a:rPr b="1" lang="pt-BR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?)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ulturas da categoria 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Nenh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-tratamento requerido pela irrigação localizada não menos do que tratamento primá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: Definir exposição do trabalhador e formas de prote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D: Cultivos destinados à produção de agroenergétic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57200" y="380880"/>
          <a:ext cx="82296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990720" y="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5 Os elementos traços da água de reúso para fins agrícolas e florestais s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2665440" y="1019160"/>
            <a:ext cx="6354720" cy="828720"/>
            <a:chOff x="2665440" y="1019160"/>
            <a:chExt cx="6354720" cy="82872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665440" y="1019160"/>
              <a:ext cx="6354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755440" y="1107720"/>
              <a:ext cx="62643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escassez de recursos hídricos observada em certas regiões do território nacional, a qual está relacionada aos aspectos de quantidade e de qua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2640" y="141588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7600" y="1095480"/>
            <a:ext cx="1747800" cy="861120"/>
            <a:chOff x="147600" y="1095480"/>
            <a:chExt cx="1747800" cy="86112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147600" y="1095480"/>
              <a:ext cx="174780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6520" y="1184400"/>
              <a:ext cx="16574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5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763640" y="2060640"/>
            <a:ext cx="561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2665440" y="817560"/>
            <a:ext cx="6354720" cy="615960"/>
            <a:chOff x="2665440" y="817560"/>
            <a:chExt cx="6354720" cy="61596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665440" y="817560"/>
              <a:ext cx="63547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55440" y="907560"/>
              <a:ext cx="6264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elevação dos custos de tratamento de água em função da degradação de mananciai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952640" y="121608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600" y="895320"/>
            <a:ext cx="1747800" cy="1017360"/>
            <a:chOff x="147600" y="895320"/>
            <a:chExt cx="1747800" cy="101736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147600" y="895320"/>
              <a:ext cx="174780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36520" y="98424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6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295280" y="1706400"/>
            <a:ext cx="6477120" cy="487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2665440" y="1646280"/>
            <a:ext cx="6356160" cy="1042920"/>
            <a:chOff x="2665440" y="1646280"/>
            <a:chExt cx="6356160" cy="10429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2665440" y="164628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755800" y="173664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prática de reúso de água que reduz a descarga de poluentes em corpos receptores, conservando os recursos hídricos para o abastecimento público e outros usos mais exigentes quanto à qualidade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952640" y="204480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7600" y="1724040"/>
            <a:ext cx="1747800" cy="1017360"/>
            <a:chOff x="147600" y="1724040"/>
            <a:chExt cx="1747800" cy="101736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47600" y="172404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36520" y="181296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7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665440" y="3483000"/>
            <a:ext cx="6356160" cy="617400"/>
            <a:chOff x="2665440" y="3483000"/>
            <a:chExt cx="6356160" cy="61740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2665440" y="3483000"/>
              <a:ext cx="635616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755800" y="3573360"/>
              <a:ext cx="626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prática de reúso de água que reduz os custos associados à poluição e contribui para a proteção do meio ambiente e da saúde públic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952640" y="388152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7600" y="3560760"/>
            <a:ext cx="1747800" cy="1017360"/>
            <a:chOff x="147600" y="3560760"/>
            <a:chExt cx="1747800" cy="1017360"/>
          </a:xfrm>
        </p:grpSpPr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147600" y="3560760"/>
              <a:ext cx="174780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36520" y="3649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8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695680" y="1096920"/>
            <a:ext cx="6356160" cy="830160"/>
            <a:chOff x="2695680" y="1096920"/>
            <a:chExt cx="6356160" cy="83016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695680" y="1096920"/>
              <a:ext cx="6356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784600" y="1187280"/>
              <a:ext cx="62658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º Estabelecer modalidades, diretrizes e critérios gerais que regulamentem e estimulem a prática de reúso direto não potável de água em todo o território nacional.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90920" y="2286000"/>
            <a:ext cx="6356160" cy="3595680"/>
            <a:chOff x="2590920" y="2286000"/>
            <a:chExt cx="6356160" cy="35956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2590920" y="2286000"/>
              <a:ext cx="635616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679840" y="2376360"/>
              <a:ext cx="626580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2º Para efeito desta Resolução, são adotadas as seguintes definiçõ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 - água residuária: esgoto, água descartada, efluentes líquidos de edificações, indústrias, agroindústrias e agropecuária, tratados ou nã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 - reúso de água: utilização de água residuária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I - água de reúso: água residuária, que se encontra dentro dos padrões exigidos para sua utilização nas modalidades pretendida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V - reúso direto de água: uso planejado de água de reuso, conduzida ao local de utilização, sem lançamento ou diluição prévia em corpos hídricos superficiais ou subterrâneo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 - produtor de água de reúso: pessoa física ou jurídica, de direito público ou privado, que produz água de reús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I - distribuidor de água de reúso: pessoa física ou jurídica, de direito público ou privado, que distribui água de reúso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II - usuário de água de reúso: pessoa física ou jurídica, de direito público ou privado, que utiliza água de reú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927000" y="1973160"/>
            <a:ext cx="4608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7600" y="1035000"/>
            <a:ext cx="1746360" cy="1196640"/>
            <a:chOff x="147600" y="1035000"/>
            <a:chExt cx="1746360" cy="1196640"/>
          </a:xfrm>
        </p:grpSpPr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47600" y="1035000"/>
              <a:ext cx="17463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36160" y="112500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662120" y="146988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557360"/>
            <a:ext cx="86364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63640" y="1557360"/>
            <a:ext cx="720720" cy="1655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H="1">
            <a:off x="898560" y="2708280"/>
            <a:ext cx="4608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7600" y="1987560"/>
            <a:ext cx="1746360" cy="1196640"/>
            <a:chOff x="147600" y="1987560"/>
            <a:chExt cx="1746360" cy="119664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147600" y="1987560"/>
              <a:ext cx="174636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236160" y="207756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665440" y="685800"/>
            <a:ext cx="6356160" cy="4446720"/>
            <a:chOff x="2665440" y="685800"/>
            <a:chExt cx="6356160" cy="444672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2665440" y="685800"/>
              <a:ext cx="6356160" cy="44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755800" y="774720"/>
              <a:ext cx="6265800" cy="43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3º O reúso direto não potável de água, para efeito desta Resolução, abrange as seguintes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modalidad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- reúso para fins urbanos: utilização de água de reuso para fins de irrigação paisagística, lavagem de logradouros públicos e veículos, desobstrução de tubulações, construção civil, edificações, combate a incêndio, dentro da área urbana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 - reúso para fins agrícolas e florestais: aplicação de água de reúso para produção agrícola e cultivo de florestas plantada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I - reúso para fins ambientais: utilização de água de reúso para implantação de projetos de recuperação do meio ambiente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V - reúso para fins industriais: utilização de água de reuso em processos, atividades e operações industriais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V - reúso na aqüicultura: utilização de água de reúso para a criação de animais ou cultivo de vegetais aquát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§ 1</a:t>
              </a: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As modalidades de reúso não são mutuamente excludentes, podendo mais de uma delas ser empregada simultaneamente em uma mesma áre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§ 2</a:t>
              </a: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As diretrizes, critérios e parâmetros específicos para as modalidades de reúso definidas nos incisos deste artigo serão estabelecidos pelos órgãos competent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644920" y="5362560"/>
            <a:ext cx="6392880" cy="1255680"/>
            <a:chOff x="2644920" y="5362560"/>
            <a:chExt cx="6392880" cy="1255680"/>
          </a:xfrm>
        </p:grpSpPr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2644920" y="5362560"/>
              <a:ext cx="63928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733840" y="5452920"/>
              <a:ext cx="63021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4º Os órgãos integrantes do SINGREH, no âmbito de suas respectivas competências, avaliarão os efeitos sobre os corpos hídricos decorrentes da prática do reúso, devendo estabelecer instrumentos regulatórios e de incentivo para as diversas modalidades de reú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741320" y="2490840"/>
            <a:ext cx="743040" cy="315432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47720" y="24066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14680" y="2478240"/>
            <a:ext cx="84132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H="1">
            <a:off x="898200" y="1541520"/>
            <a:ext cx="65160" cy="491184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7600" y="879480"/>
            <a:ext cx="1746360" cy="1196640"/>
            <a:chOff x="147600" y="879480"/>
            <a:chExt cx="1746360" cy="11966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47600" y="879480"/>
              <a:ext cx="174636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36160" y="96948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665440" y="1809720"/>
            <a:ext cx="6356160" cy="1042920"/>
            <a:chOff x="2665440" y="1809720"/>
            <a:chExt cx="6356160" cy="1042920"/>
          </a:xfrm>
        </p:grpSpPr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2665440" y="180972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55800" y="190008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6º Os Planos de Recursos Hídricos, observado o exposto no art. 7º, inc. IV, da Lei n° 9.433, de 1997, deverão contemplar, entre os estudos e alternativas, a utilização de águas de reúso e seus efeitos sobre a disponibilidade hídric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644920" y="2898720"/>
            <a:ext cx="6392880" cy="1042920"/>
            <a:chOff x="2644920" y="2898720"/>
            <a:chExt cx="6392880" cy="104292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2644920" y="289872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33840" y="2987640"/>
              <a:ext cx="630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7º Os Sistemas de Informações sobre Recursos Hídricos deverão incorporar, organizar e tornar disponíveis as informações sobre as práticas de reúso necessárias para o gerenciamento dos recursos hídr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57520" y="3994200"/>
            <a:ext cx="6392880" cy="2531880"/>
            <a:chOff x="2657520" y="3994200"/>
            <a:chExt cx="6392880" cy="2531880"/>
          </a:xfrm>
        </p:grpSpPr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2657520" y="3994200"/>
              <a:ext cx="6392880" cy="25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47880" y="4083120"/>
              <a:ext cx="6302520" cy="24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8º Os Comitês de Bacia Hidrográfica deverã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– considerar, na proposição dos mecanismos de cobrança e aplicação dos recursos da cobrança, a criação de incentivos para a prática de reúso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 - integrar, no âmbito do Plano de Recursos Hídricos da bacia, a prática de reúso com as ações de saneamento ambiental e de uso e ocupação do solo na bacia hidrográfic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arágrafo único. Nos casos onde não houver Comitês de Bacia Hidrográfica instalados, a responsabilidade caberá ao órgão gestor de recursos hídricos, em conformidade com o previsto na legislação pertin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763640" y="1325520"/>
            <a:ext cx="720720" cy="863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5720" y="1343160"/>
            <a:ext cx="728640" cy="2214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8600" y="131112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735200" y="1179000"/>
            <a:ext cx="820800" cy="2048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20800" y="1373040"/>
            <a:ext cx="835200" cy="463248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4920" y="685800"/>
            <a:ext cx="6392880" cy="1042920"/>
            <a:chOff x="2644920" y="685800"/>
            <a:chExt cx="6392880" cy="1042920"/>
          </a:xfrm>
        </p:grpSpPr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2644920" y="68580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33840" y="776160"/>
              <a:ext cx="630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5º Caso a atividade de reúso implique alteração das condições das outorgas vigentes, o outorgado deverá solicitar à autoridade competente retificação da outorga de direito de uso de recursos hídricos de modo a compatibilizá-la com estas alteraçõ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H="1">
            <a:off x="898200" y="2421000"/>
            <a:ext cx="49320" cy="404820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47600" y="1573200"/>
            <a:ext cx="1746360" cy="1195200"/>
            <a:chOff x="147600" y="1573200"/>
            <a:chExt cx="1746360" cy="119520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47600" y="1573200"/>
              <a:ext cx="1746360" cy="6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6160" y="166176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11440" y="4618080"/>
            <a:ext cx="6392880" cy="1042920"/>
            <a:chOff x="2611440" y="4618080"/>
            <a:chExt cx="6392880" cy="104292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2611440" y="461808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700360" y="4708440"/>
              <a:ext cx="6302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1º O disposto nesta Resolução não exime o produtor, o distribuidor e o usuário da água de reúso direto não potável da respectiva licença ambiental, quando exigida, assim como do cumprimento das demais obrigações legais pertinentes.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763640" y="2060640"/>
            <a:ext cx="720720" cy="1439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19890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763640" y="1987560"/>
            <a:ext cx="792360" cy="6048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060640"/>
            <a:ext cx="720720" cy="2808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11440" y="3421080"/>
            <a:ext cx="6392880" cy="830160"/>
            <a:chOff x="2611440" y="3421080"/>
            <a:chExt cx="6392880" cy="830160"/>
          </a:xfrm>
        </p:grpSpPr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2611440" y="3421080"/>
              <a:ext cx="639288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700360" y="3511440"/>
              <a:ext cx="63025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0º Deverão ser incentivados e promovidos programas de capacitação, mobilização social e informação quanto à sustentabilidade do reúso, em especial os aspectos sanitários e ambientai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649600" y="1247760"/>
            <a:ext cx="6392880" cy="1893960"/>
            <a:chOff x="2649600" y="1247760"/>
            <a:chExt cx="6392880" cy="1893960"/>
          </a:xfrm>
        </p:grpSpPr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2649600" y="1247760"/>
              <a:ext cx="639288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738520" y="1336680"/>
              <a:ext cx="6302160" cy="17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9º A atividade de reúso de água deverá ser informada, quando requerida, ao órgão gestor de recursos hídricos, para fins de cadastro, devendo contemplar, no mínim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- identificação do produtor, distribuidor ou usuári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 - localização geográfica da origem e destinação da água de reús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I - especificação da finalidade da produção e do reúso de água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V - vazão e volume diário de água de reúso produzida, distribuída ou utilizad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metrios</cp:lastModifiedBy>
  <dcterms:modified xsi:type="dcterms:W3CDTF">2006-11-27T21:55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